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039CA-E4D8-4951-96BD-4E1651C17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also remove the tarnish by multiplying both sides of the equation by the reciprocal of the number that is the “tarnish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 this slide, putting an explanation below each equation of how you would use the mud and tarnish to solve the equation, such a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would add 5 to both sides of the equation, and then divide both sides of the equation by 4…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316A-7F4F-4946-A395-FB0674183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FBCFC-AE36-4760-A74A-9DC5CB05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FD64D-AD74-48D1-A620-12BBF361F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CFA20-E595-48FC-A022-E0CA4D49E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E6F5A-C2DA-4792-937C-5751E6351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1C07C-FB06-4624-ABAE-0B7E50F6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AB70-0FE2-42E9-9C77-2401654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CABB-5274-45D9-93DF-10B72E665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AE30F-EBD9-4D33-882A-F4F2F42B9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C37B-9F2D-4309-B583-2C74E867D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24E73-76AE-45FB-9C39-63693DDCA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5A66-E2E7-46C7-8D15-CD5988B0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2E3E-5633-4C27-8E4B-635E0BAA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A5AA-0979-4B8C-BFBE-539F19FE2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7CAE-E31A-4A55-A6EB-8301F5E60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76333-A9D9-48CD-B3FA-FE22D9876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1DABF-0D19-40BC-96AB-794104C7E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73034-389A-497B-8DA1-5FD3E4C5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E62F9-038F-49D6-A29D-23652D6B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6F226-53BA-4A81-A0A3-483A37DF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F4F2-F4A6-4406-A49D-054C1FF89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257DB-21E5-40A1-A2AF-264EF2AB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2CB25-E8C9-495F-AA3E-9D427F6D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964E6-79F3-4EDB-AF22-9EBB3060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9588F-B635-4E3D-9A37-461E991D5F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7000-99F0-45AC-B719-C0F3A74447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slide10.xml"/><Relationship Id="rId4" Type="http://schemas.openxmlformats.org/officeDocument/2006/relationships/oleObject" Target="../embeddings/oleObject1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7d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ving single variable equations can seem tricky, at first, so begin by asking yourself several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solve the equation 3x + 5 = 14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f I broke the problem down into step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first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would I do for the second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I know what part of the equation to use for each ste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STEP 1: Identify the MUD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solidFill>
            <a:srgbClr val="0000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the number that is on the same side of the equation as the variable you are solving f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MUD i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dd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btracted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to that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To remove the MUD, perform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x + 4 = 6    Four is added to 2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Subtract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4 from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x - 3  = 4.  Three is subtracted from 7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i="1" lang="en-US" sz="1600" spc="-1" strike="noStrike">
                <a:solidFill>
                  <a:srgbClr val="ffff00"/>
                </a:solidFill>
                <a:latin typeface="Arial"/>
              </a:rPr>
              <a:t>Add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 3 to both sides of the equa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tep 2: Identify the TARNIS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305920" cy="43434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TARNISH is the number that i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multipli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or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ivid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he variable that you are solving for (such as 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 remove the TARNISH, perform  the inverse operation to the equation on both sides, using that same num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2x = 4       Two is multiplied times 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x/3 = 6       x is divided by th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ultipl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oth sides of the equation by 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n you identify the MUD (Step 1)and TARNISH (Step 2) in these equ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x + 2 = 12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x = 24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0       Tarnish:  x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x – 4 = 4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x/3 – 8 = 1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Now that you can identify the MUD 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and TARNISH, explain how to use this information to solve the following equ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x + 2 = 12 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+ 2    Tarnish:  x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Subtract 2 from both sides, and then divide both sides by 6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x – 4 = 4  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4      Tarnish:  x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Add 4 to both sides, and then divide both sides by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     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1" action="ppaction://hlinksldjump"/>
              </a:rPr>
              <a:t>How would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2" action="ppaction://hlinksldjump"/>
              </a:rPr>
              <a:t>you </a:t>
            </a:r>
            <a:r>
              <a:rPr b="0" lang="en-US" sz="1600" spc="-1" strike="noStrike" u="sng">
                <a:solidFill>
                  <a:srgbClr val="666699"/>
                </a:solidFill>
                <a:uFillTx/>
                <a:latin typeface="Arial"/>
                <a:hlinkClick r:id="rId3" action="ppaction://hlinksldjump"/>
              </a:rPr>
              <a:t>finish this probl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x/3 – 8 = 13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ud: -8      Tarnish: Divide by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50021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936960" y="2476440"/>
          <a:ext cx="914400" cy="198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36960" y="247644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You can use the “mud/tarnish” strategy to solve many types of algebra proble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7991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one variable like the ones you’ve just seen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more than one vari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 the other variables as if they were just numbe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d and tarnish”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 with fractions, square roots, even complex number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types of numbers and variables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 “mud and tarnish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315200" cy="76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29520" bIns="295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is is another way to look at solving linear equations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14400" y="743040"/>
            <a:ext cx="7467480" cy="60865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EMBER, when you are solving equations using the mud/tarnish method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4343400" cy="441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equation  remaining after you clean off the mud and tarn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you are solving for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umb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at it repres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ariable is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ing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quati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819760" y="3360600"/>
            <a:ext cx="3071880" cy="2041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    </a:t>
            </a:r>
            <a:r>
              <a:rPr b="0" lang="en-US" sz="7200" spc="-1" strike="noStrike">
                <a:solidFill>
                  <a:srgbClr val="000000"/>
                </a:solidFill>
                <a:latin typeface="Informal Roman"/>
              </a:rPr>
              <a:t>THE    END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476520" y="3114720"/>
            <a:ext cx="2806920" cy="2074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229600" cy="4724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, to solve a problem, it helps to relate it to something that is entirely differ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ul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ssib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related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+ 5 = 1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you believe: Cleaning the muddy, tarnished rings of ancient Roman soldi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fore we start to solve our algebra problem, we need to learn a little about these Romans and their ring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00 years ago, Roman soldiers fought  battles against fierce tribes in what is now Europ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se soldiers buried their rings and other jewelry before battle to protect their valuab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 the soldiers died in battle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times, the soldiers survived the battle, but just couldn’t remember where they had buried their jewelry.  (They must have dug a lot of holes trying to find i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 today, people with metal detectors in England, Germany, and even in Eastern Europe find this jewelry. .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095800" y="2709720"/>
            <a:ext cx="3976920" cy="3073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times…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they find Roman rings in the mu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times these rings are clea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these rings are </a:t>
            </a:r>
            <a:r>
              <a:rPr b="0" lang="en-US" sz="2800" spc="-1" strike="noStrike">
                <a:solidFill>
                  <a:srgbClr val="9999ff"/>
                </a:solidFill>
                <a:latin typeface="Arial"/>
              </a:rPr>
              <a:t>tarnish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usually, these rings are </a:t>
            </a:r>
            <a:r>
              <a:rPr b="0" lang="en-US" sz="3200" spc="-1" strike="noStrike">
                <a:solidFill>
                  <a:srgbClr val="9999ff"/>
                </a:solidFill>
                <a:latin typeface="Arial"/>
              </a:rPr>
              <a:t>tarnish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d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066680" y="1981080"/>
            <a:ext cx="3638520" cy="2411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23880" y="4219560"/>
            <a:ext cx="1905120" cy="142884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457200"/>
            <a:ext cx="8229600" cy="1371600"/>
          </a:xfrm>
          <a:prstGeom prst="rect">
            <a:avLst/>
          </a:prstGeom>
          <a:solidFill>
            <a:srgbClr val="a5002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t’s pretend YOU found a Roman ring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and it was muddy AND tarnished.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How would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you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lean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4573440" cy="3379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on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ver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outsid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f the ring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u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or 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arn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 the outside of the ring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t is what you would clean off fir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a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tarni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harder to clean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ould clean it of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mu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, let’s compare the mud and tarnish to parts of our equation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3 x + 5 = 1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MUD in this equ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 5 is the mud.  It is the easiest part of the equation to “clean up”, as it is only added to the 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get rid of the mu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swer: We “wash off” the mud, 5, by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trac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both sides of the equati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subtracting 5 is the inverse of adding 5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                                       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3x + 5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= 14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–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3x = 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that the mud is gone, what is the                        TARNISH in the equation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3x = 9 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ARNISH is the number 3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“attached” to x b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ltiplic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“remove the tarnish”, you mus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oth sides of the equation by 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y 3  because division is the inverse operation of multipli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x / 3 = 9 /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,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81080"/>
            <a:ext cx="79246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What are the steps in solving an linear equation with one variable using the mud/tarnish strateg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3:13:47Z</dcterms:created>
  <dc:creator>Rhonda Renker</dc:creator>
  <dc:description/>
  <dc:language>en-US</dc:language>
  <cp:lastModifiedBy>Rhonda Renker</cp:lastModifiedBy>
  <dcterms:modified xsi:type="dcterms:W3CDTF">2008-07-05T04:05:00Z</dcterms:modified>
  <cp:revision>41</cp:revision>
  <dc:subject/>
  <dc:title>Solving Single Variable Equations</dc:title>
</cp:coreProperties>
</file>